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575-C703-4B7B-AE3C-AFC80225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6A3-6770-4202-8F59-530EB9C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4C8-7454-4C2B-B74E-AC12347F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E9E-A4C8-41A3-A500-7F804611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7EE-8FD8-4F52-B5D0-8F1EB26E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F6D-D2B1-42E6-9D99-BAF31F7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D2D8-9DB1-4B39-9109-E0F5914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F46-5514-44E8-9032-B259798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2AF2-A4F7-48C5-8840-897D415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0187-4655-4715-8A3A-70FC86E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6E85-9668-4765-8FC3-B30691E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9B8-4B97-40C5-A9E2-5A3FBA5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968-2504-4ADC-A3D9-92427DB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6B48-9208-4F13-91E8-9A64D41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1D0-5A3E-4FD1-AC2D-0AB01C3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0061-D309-4C34-A18F-113E8056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5003-5C56-4929-A858-E778EE8E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355-5217-46C9-B2F1-186C3E22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247-CE2C-463B-B2FE-F5A103A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3B3-1315-4138-96BD-F4B53B1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FEE-B3FF-430A-8143-6950D570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20D-8C50-4B15-85F9-771126E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929-9542-47DB-9D3E-F7EBD41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692-C33C-45A6-B330-2A29923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6B7-E004-4799-B504-19FC9F7BF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7B67-3485-4833-8FAF-51E764444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80060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جميعَ الشعوبِ صَفِّقوا بالأَكُف إهتفوا للهِ بصوتِ الترنيمِ اهتفوا لله بصوتِ الترنيمِ فإن الربَ صالحٌ قدوسٌ ملكٌ عظيمٌ عظيمٌ على جميعِ الأ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74320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يٌ المسيحُ ربُنا حيٌ رجانا وميراثُنا عن يمينِ الله في الأعالي يسوعُ المسيحُ الفادي أشيدوا للهِ أشيدوا أشيدوا لملِكِنا أشي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440"/>
            <a:ext cx="647712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2362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إن الربَّ هوَ ملكُ الأرضِ كلّها أشيدوا بصوتِ ترنيمٍ مَلَكَ اللهُ على الأممِ اللهُ العليّ ملِكٌ مدى الده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43:23Z</dcterms:created>
  <dc:creator>HANI SAFI</dc:creator>
  <dc:description/>
  <dc:language>en-US</dc:language>
  <cp:lastModifiedBy>HANI SAFI</cp:lastModifiedBy>
  <dcterms:modified xsi:type="dcterms:W3CDTF">2003-05-30T08:57:57Z</dcterms:modified>
  <cp:revision>2</cp:revision>
  <dc:subject/>
  <dc:title>Slide 1</dc:title>
</cp:coreProperties>
</file>